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793-B506-45B4-BEB8-F73C8B38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C4FF-FC7A-4E8F-B05B-B666B831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36FE-2CD9-41E3-BDBF-909754CE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9D1-55C5-41C1-A737-CCC84DFE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67C6-7AC5-4C73-BAAE-802646A6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2D25-E9FB-4E73-BFDB-3C5BEB5E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BC34-9A6A-4522-ADAB-00A4CEFE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E730-5F96-46AE-9629-FCDBD7FF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C9CE-F212-433D-9782-62A517CB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4D74-B9D0-4987-8CC3-08986170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9007-B32D-4982-B9AD-D8B02662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31F-E30C-440C-BBE7-3B1F8E38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9E98-7484-4B48-847C-8FA1351D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D30A-32E6-47DA-8169-38FA8A57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4D73-46F9-4765-BFFB-1EFEB593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D4F2-1F3A-4EAE-8350-E0EABF96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9577-D691-481E-ADFB-0A5594A6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1BA3-BAB5-460D-9AF3-889D7B10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4A7E-A7BD-4592-8506-0DB2A2E5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AF4-978C-4DE0-BBCC-5CB71131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FF1E-D02C-4BC3-AAA7-F1E9E8C8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5D0-6CCE-413B-9143-87F780D7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C2EA-BC8F-4FF5-AF8B-6C1F069E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1146-7B9E-4E46-B2C7-25A40C1A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0366-2447-489F-B6A7-1F0E8B696BB5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D78C-9FC0-4BAB-8A8B-10E81B6A5C87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ge:  32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’s 22 - 2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2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– 17r – 5 = 0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2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– 17r      = 5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– (17/12)r     = (5/12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alf:  (17/24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Half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:  (289/576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– (17/12)r + (289/576) = (5/12) + (289/576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r – (17/24)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= (529/576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 – (17/24) = ± (23/24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59984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 – (17/24) = (23/24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 = (40/24) = (5/3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 – (17/24) = -(23/24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 = -(6/24) = -(1/4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 = (5/3), -(1/4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– (3/4)b + (1/8) = 0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– (3/4)b          = -(1/8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alf:  (3/8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Half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:  (9/64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– (3/4)b + (9/64) = -(1/8) + (9/64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b – (3/8)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= (1/64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 – (3/8) = ± (1/8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5998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 – (3/8) = (1/8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 = (4/8) = (1/2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 – (3/8) = -(1/8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 = (2/8) = (1/4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 = (1/2) , (1/4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+ 4t – 15 = 0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+ 4t        = 15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+ (4/3)t        = 15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alf:  (4/6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Half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= (16/36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+ (4/3)t + (16/36) = 15 + (16/36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t + (4/6)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= (49/9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t – (2/3)) = ± (7/3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5998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 – (2/3) = (7/3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 = (9/3) = 3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 – (2/3) = -(7/3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 = -(5/3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 = 3, -(5/3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2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3z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- 12z + 4 = 0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3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- 12t        = -4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- 4t        = -(4/3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Half:  2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Half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- 4t + 4 = -(4/3) + 4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t - 2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(8/3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t - 2) = ±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 - 2 = ± 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7239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 - 2 =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 = 2 +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 - 2 =    -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 = 2 -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 = 2 ±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r…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 =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13"/>
          <p:cNvGrpSpPr/>
          <p:nvPr/>
        </p:nvGrpSpPr>
        <p:grpSpPr>
          <a:xfrm>
            <a:off x="2057400" y="1600200"/>
            <a:ext cx="4722840" cy="4133880"/>
            <a:chOff x="2057400" y="1600200"/>
            <a:chExt cx="4722840" cy="4133880"/>
          </a:xfrm>
        </p:grpSpPr>
        <mc:AlternateContent>
          <mc:Choice xmlns:a14="http://schemas.microsoft.com/office/drawing/2010/main" Requires="a14">
            <p:sp>
              <p:nvSpPr>
                <p:cNvPr id="101" name="Object 6"/>
                <p:cNvSpPr txBox="1"/>
                <p:nvPr/>
              </p:nvSpPr>
              <p:spPr>
                <a:xfrm>
                  <a:off x="2211120" y="4912560"/>
                  <a:ext cx="59040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8</m:t>
                              </m:r>
                            </m:e>
                          </m:rad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  <m:r>
                        <m:t xml:space="preserve">⋅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Object 7"/>
                <p:cNvSpPr txBox="1"/>
                <p:nvPr/>
              </p:nvSpPr>
              <p:spPr>
                <a:xfrm>
                  <a:off x="2057400" y="5297760"/>
                  <a:ext cx="33336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Object 8"/>
                <p:cNvSpPr txBox="1"/>
                <p:nvPr/>
              </p:nvSpPr>
              <p:spPr>
                <a:xfrm>
                  <a:off x="6247800" y="1600200"/>
                  <a:ext cx="33336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Object 11"/>
                <p:cNvSpPr txBox="1"/>
                <p:nvPr/>
              </p:nvSpPr>
              <p:spPr>
                <a:xfrm>
                  <a:off x="6369840" y="2601360"/>
                  <a:ext cx="33336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12"/>
                <p:cNvSpPr txBox="1"/>
                <p:nvPr/>
              </p:nvSpPr>
              <p:spPr>
                <a:xfrm>
                  <a:off x="6369840" y="2986560"/>
                  <a:ext cx="33336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3"/>
                <p:cNvSpPr txBox="1"/>
                <p:nvPr/>
              </p:nvSpPr>
              <p:spPr>
                <a:xfrm>
                  <a:off x="6446880" y="1985040"/>
                  <a:ext cx="33336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Object 14"/>
                <p:cNvSpPr txBox="1"/>
                <p:nvPr/>
              </p:nvSpPr>
              <p:spPr>
                <a:xfrm>
                  <a:off x="6215760" y="3679920"/>
                  <a:ext cx="33336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Object 15"/>
                <p:cNvSpPr txBox="1"/>
                <p:nvPr/>
              </p:nvSpPr>
              <p:spPr>
                <a:xfrm>
                  <a:off x="6215760" y="5143680"/>
                  <a:ext cx="53892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  <m:r>
                            <m:t xml:space="preserve">±</m:t>
                          </m:r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3:02:02Z</dcterms:created>
  <dc:creator> </dc:creator>
  <dc:description/>
  <dc:language>en-US</dc:language>
  <cp:lastModifiedBy> </cp:lastModifiedBy>
  <dcterms:modified xsi:type="dcterms:W3CDTF">2008-04-01T16:36:38Z</dcterms:modified>
  <cp:revision>15</cp:revision>
  <dc:subject/>
  <dc:title>Solutions to:</dc:title>
</cp:coreProperties>
</file>